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C25-F1C1-49B2-821A-60AE7661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3D0-A433-4AE0-957C-28B134D6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0A5-A53D-45FD-8C8C-8000CB48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384-2316-41A6-9FCA-2588014A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CEBD-EB78-4A1B-A1E0-F7AFB1FF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3925-EAA0-4F87-9FA1-306B9EA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092A-D250-4BF4-940C-1E3934A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A6A8-B922-4ADC-A443-55704B9D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CADD-E0BE-4B72-AF36-D65577AE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90F-5956-4FCE-BE71-16005DBF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914-50F2-4779-B29A-E6005E7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3E0-C203-4881-85A7-53284B8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868A-9872-4139-9676-B2B6E7E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C9F2-05BA-4F52-B1B6-C46FF95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DA8E-DD72-44F8-B008-879B885F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5FF4-9434-4F0B-A245-DB9535B4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CDD8-B7A3-45D5-B110-5AC72E56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6C0-585A-41E8-862C-8161A08A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BB5-5009-43D6-B351-5B82B71B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14F-DD0C-4461-92BD-5144A53D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55A-525B-470A-8BFE-7A384DEA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982-C407-4424-9E4E-943AEDA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ACF-464A-43B4-9874-76EDA0F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137-97D1-4E44-A126-3F060B1B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1DC-F22C-4EA2-A51B-1FCAD88609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43B7-29D4-47C2-AD75-D3CA2AC9D0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i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Types of Editori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-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oto Surv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-Count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readers with differing opinions to express opinions side by s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unctions of Editori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de, explain, criticize, express warning, entertain, praise, provide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of these individually, look on pages 305-310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lecting Editorial Top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hosen by the editorial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my rea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elect controversial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need approv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may want outside assi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riting the Editor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ritten in firs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omewhat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outline provided (page 3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-written pieces that convey current 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ile columns – focus on individu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tirical columns – focus on something fun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shion and fad colum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-the-clubs columns – give clubs cred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mes-in-the-news columns – awa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-A columns – answer questions from read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nything goes – movies, theatre, Web sites, restaurants, books,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approaches to write 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ing compari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aluating fulfillment and intended purp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mizing strengths and weakn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re Revie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ing performances – use thes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ng, sets, dialogue, lighting, sound, dir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rat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s, thum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ters to the Edi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readers to speak their m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have a statement regarding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name verification – no unsigned letter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any similar letters arrive, you can print one with a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orial Carto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caric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editorial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toon as symbol – image represents an attitu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toon as metaphor – likens one thing to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toon as joke on current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07:42Z</dcterms:created>
  <dc:creator>jvanengen</dc:creator>
  <dc:description/>
  <dc:language>en-US</dc:language>
  <cp:lastModifiedBy>jvanengen</cp:lastModifiedBy>
  <dcterms:modified xsi:type="dcterms:W3CDTF">2009-03-24T13:17:07Z</dcterms:modified>
  <cp:revision>6</cp:revision>
  <dc:subject/>
  <dc:title>Chapter 13</dc:title>
</cp:coreProperties>
</file>